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4FC-F484-4FF8-AF89-04F8F55862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5429-7254-4D9E-A3AD-5CFA8D601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cl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r&gt; stands for "horizontal rule"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t's a self-closing element used to create a horizontal line on a web page.g htm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BA0A-5F13-473D-8886-B6944C62A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και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 (WWW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δεν είναι το ίδιο πράγμα, αν και πολλοί τα συγχέουν. Ας δούμε τις διαφορές του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1. Intern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είναι ένα τεράστι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δίκτυο δικτύων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το οποίο συνδέει εκατομμύρια υπολογιστές, διακομιστές και άλλες συσκευές παγκοσμίω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εριλαμβάνει διάφορες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ες και πρωτόκολλ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όπω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Ηλεκτρονικό ταχυδρομείο (Emai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ο μεταφοράς αρχείων (FT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α τηλεφωνίας (VoI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ταλλαγή αρχείων peer-to-p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υπάρχει από τη δεκαετία του 1960 και περιλαμβάνει όλες τις διαδικτυακές υποδομ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2. World Wide Web (WWW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WWW είναι μία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που λειτουργεί πάνω στο Internet. Ουσιαστικά, είναι ένας από τους τρόπους με τους οποίους οι χρήστες μπορούν να χρησιμοποιήσουν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πτύχθηκε από τον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Tim Berners-Le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 1989 και βασίζεται σε υπερκείμενο (hypertext) και συνδέσμους (links), επιτρέποντας στους χρήστες να περιηγούνται σε ιστοσελίδες που είναι αποθηκευμένες σε διακομιστ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ι ιστοσελίδες προσπελαύνονται μέσω προγραμμάτων περιήγησης (browsers), και χρησιμοποιούν κυρίως το πρωτόκολλ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ύνοψ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η υποδομή, το φυσικό δίκτυο που συνδέει τους υπολογιστές.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μία υπηρεσία που βασίζεται σε αυτή την υποδομή και επιτρέπει την προβολή ιστοσελίδων μέσω των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Άρα, το WWW είναι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ένα κομμάτι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υ Internet, όχι το ίδιο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re some popular options for writing HTML, along with their 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ublim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fast, and customizable with packages. Supports HTML, CSS, JavaScript, and a wide range of other languages. Sublime Text's features like multi-cursor editing and powerful search make it great for front-end develo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fast, minimalistic editor with the ability to extend functionality through plugins and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. Visual Studio Code (VS C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Widely regarded as one of the best editors for web development. VS Code offers built-in support for HTML, CSS, and JavaScript, along with extensive plugins, an integrated terminal, and Git support. Features lik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m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for writing fast HTML/CSS) are built-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powerful, feature-rich environment with integrated debugging, version control, and task ru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ke Sublime Text, Atom is also highly customizable, open-source, and integrates well with Git and GitHub. It has a user-friendly interface and offers a lot of themes and exten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prefer an open-source alternative with a modern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Notepad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supports basic syntax highlighting, and is great for writing HTML on low-resource systems. It's free and eas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those who want a simple, no-frills editor that runs smoothly even on old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Web-Based Editors (like CodePen or JSF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Great for quick prototyping and sharing code online. These platforms allow you to write and instantly preview HTML, CSS, and JavaScript in the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developers who want to experiment with HTML and CSS snippets quickly and share them easily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5CD-9127-4004-BE42-019D3D850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xyoyn ta rowspan colspan kai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291-8089-4B98-832A-0978AA8F8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1B6E-56A1-4520-B2A3-AD8E87747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0DC-FB76-4E60-898A-05CB7CDB3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3DE-7BBA-4A1A-BA44-35F7C75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E89-C96A-4E77-AF49-AF6E1212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901-E93A-49D3-AD1B-C7C57E7E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456-04A0-48B9-A572-1AE0EC53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810-7498-476F-A3D9-3C9D1515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4A29-8410-4D11-804A-EB5F0563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6976-71B6-4834-8E48-7D1FEFB4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F116-70FD-4733-BFD5-51700EA6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BD76-F65E-4AAB-8218-C885FA5F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35DD-FE03-4361-8721-41518AFF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78AA-EAB3-46DA-B229-4637220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BAE-0D55-4EDB-8784-B498444B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5E01-D05E-4247-B939-E91C114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CF27-2A1F-4B9B-940A-F583F88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4FC8-B602-47B6-AE32-2F4E3A1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845-98DC-4237-9062-6BE04646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CCE-53D7-413D-B9FE-4ABD7780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065-4B2C-45E6-9631-6B0B5131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190-2DDB-41F5-9FDC-AFC57D3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457-1F61-44FB-9EF4-0A9D7C5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90D-A2FC-4CA8-B05F-AAD3F89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FCF-79FA-47FC-9BD9-0596EF7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1A4-E705-4200-8BAE-A9F51473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EAE-BEE4-40FA-A416-EE3FBD03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7072-8B6B-48B1-A1A6-D92CEA75E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811-E107-466B-972C-E06410222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hyperlink" Target="https://www.w3schools.com/html/html_symbols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list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rdered_link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links.html" TargetMode="External"/><Relationship Id="rId2" Type="http://schemas.openxmlformats.org/officeDocument/2006/relationships/hyperlink" Target="file:///links.html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icture.html" TargetMode="External"/><Relationship Id="rId2" Type="http://schemas.openxmlformats.org/officeDocument/2006/relationships/hyperlink" Target="file:///picture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peech Bubble: Rectangle 4"/>
          <p:cNvSpPr/>
          <p:nvPr/>
        </p:nvSpPr>
        <p:spPr>
          <a:xfrm>
            <a:off x="5923080" y="1108080"/>
            <a:ext cx="1942920" cy="914400"/>
          </a:xfrm>
          <a:prstGeom prst="wedgeRectCallout">
            <a:avLst>
              <a:gd name="adj1" fmla="val -99953"/>
              <a:gd name="adj2" fmla="val 60745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4"/>
          <p:cNvSpPr/>
          <p:nvPr/>
        </p:nvSpPr>
        <p:spPr>
          <a:xfrm>
            <a:off x="7419960" y="2023920"/>
            <a:ext cx="1943280" cy="914400"/>
          </a:xfrm>
          <a:prstGeom prst="wedgeRectCallout">
            <a:avLst>
              <a:gd name="adj1" fmla="val -77041"/>
              <a:gd name="adj2" fmla="val -2346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closing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1640" y="-360"/>
            <a:ext cx="8039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8520" y="692280"/>
            <a:ext cx="867096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7e9ce8"/>
                </a:solidFill>
                <a:latin typeface="Arial"/>
              </a:rPr>
              <a:t>&lt;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797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8443800" y="2997360"/>
            <a:ext cx="64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49432"/>
                </a:solidFill>
                <a:latin typeface="Arial"/>
              </a:rPr>
              <a:t>th : tabl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 : table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td: tabl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8443800" y="1676520"/>
            <a:ext cx="9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: text element brief description or ti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12480" y="1066320"/>
            <a:ext cx="877860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Updated: 11 October 202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Hypertext Application Technology Working Group (WHA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42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– Our first Web page (This is a comment)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Welcome to Our Web Site!!!!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22360" y="1719360"/>
            <a:ext cx="1584360" cy="916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opening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002360" y="1719360"/>
            <a:ext cx="1925640" cy="91692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lo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9800" y="1557360"/>
            <a:ext cx="845820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ή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106720" y="1719360"/>
            <a:ext cx="4895640" cy="1191240"/>
          </a:xfrm>
          <a:prstGeom prst="rect">
            <a:avLst/>
          </a:prstGeom>
          <a:solidFill>
            <a:srgbClr val="00b0f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δώ απλ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tags)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στοιχεία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ements)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΄μπορούν να έχουν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οποία έχουν τιμέ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Εικόνα 3" descr=""/>
          <p:cNvPicPr/>
          <p:nvPr/>
        </p:nvPicPr>
        <p:blipFill>
          <a:blip r:embed="rId1"/>
          <a:stretch/>
        </p:blipFill>
        <p:spPr>
          <a:xfrm>
            <a:off x="2038320" y="4189320"/>
            <a:ext cx="5753160" cy="1543320"/>
          </a:xfrm>
          <a:prstGeom prst="rect">
            <a:avLst/>
          </a:prstGeom>
          <a:ln w="0">
            <a:noFill/>
          </a:ln>
        </p:spPr>
      </p:pic>
      <p:sp>
        <p:nvSpPr>
          <p:cNvPr id="173" name="Ευθεία γραμμή σύνδεσης 3"/>
          <p:cNvSpPr/>
          <p:nvPr/>
        </p:nvSpPr>
        <p:spPr>
          <a:xfrm>
            <a:off x="2467080" y="6237360"/>
            <a:ext cx="460836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Ευθύγραμμο βέλος σύνδεσης 5"/>
          <p:cNvCxnSpPr/>
          <p:nvPr/>
        </p:nvCxnSpPr>
        <p:spPr>
          <a:xfrm flipV="1">
            <a:off x="2466720" y="5732280"/>
            <a:ext cx="1080" cy="505440"/>
          </a:xfrm>
          <a:prstGeom prst="straightConnector1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5" name="Ευθύγραμμο βέλος σύνδεσης 8"/>
          <p:cNvCxnSpPr/>
          <p:nvPr/>
        </p:nvCxnSpPr>
        <p:spPr>
          <a:xfrm flipV="1">
            <a:off x="7075080" y="5732280"/>
            <a:ext cx="1080" cy="505440"/>
          </a:xfrm>
          <a:prstGeom prst="straightConnector1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76" name="TextBox 7"/>
          <p:cNvSpPr/>
          <p:nvPr/>
        </p:nvSpPr>
        <p:spPr>
          <a:xfrm>
            <a:off x="3403440" y="573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/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Βογιατζάκη Ελένη</cp:lastModifiedBy>
  <dcterms:modified xsi:type="dcterms:W3CDTF">2024-10-09T11:16:09Z</dcterms:modified>
  <cp:revision>682</cp:revision>
  <dc:subject/>
  <dc:title>Τεχνολογίες Διαδικτύου</dc:title>
</cp:coreProperties>
</file>